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2DA2-564A-4C6F-AFC5-928E9EBDE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958E-48ED-4D77-A32E-19E7C44D9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lickbiology.com/igcse-plant-reproduction-powerpoint-presentation-workshee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5D52-EB53-4457-86C4-014014ADC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2.nicerweb.com/Locked/media/ch38/flow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F7F1-6982-4CC5-AE0A-EA32A7824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parknotes.com/biology/plants/plantclassification/section2.r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9343-4A70-4809-AED7-50BF0B35B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dvance.uconn.edu/2004/040209/04020910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1561-1F95-44EA-AFB0-23130FE5A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903.nicerweb.com/Locked/media/ch38/pollen_fertiliz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2736-BC3B-4DF7-9B83-D10A286C5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boundless.com/biology/textbooks/boundless-biology-textbook/plant-reproduction-32/pollination-and-fertilization-190/development-of-the-seed-725-1195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2013-AF46-45E1-AEA2-8EFD7DCCE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ispersal image from: https://www.blendspace.com/lessons/XmPUWR_sqJVY2A/seed-dispersal-migration-hibernation-es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dispersal image from: http://science.psu.edu/news-and-events/2010-news/Carlo2-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of exploding seed dispersal: https://www.youtube.com/watch?v=NsIojj4Pz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3978-2F25-45D3-8AF4-EC6E34AE4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EFC1-91CE-4CF6-9033-A0B405D7D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D talk link: https://www.ted.com/talks/louie_schwartzberg_the_hidden_beauty_of_pollination?language=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F65-DB96-4185-9F34-2774BB15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7DB-FBF8-414F-AE5A-3CB57D7B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1F2-E287-438B-985E-B0A6FD29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FB0-28E4-44BC-BF34-5C0290E3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FBF-7275-4388-AA31-EEF8B2AA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8D6-9A6F-4175-A4BA-FD0979EE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7B1-FFBA-41B9-B907-2EF1D527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74B-16DF-44E0-A045-D2671944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52A-7C34-4B89-B2EE-5489B2D0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B6C-AA26-4D1F-8F1E-4023914F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44D-3023-45B6-9952-E148B462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FBE-4056-4921-A5AF-1FD6C322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7076-3935-4AF1-B9C7-EA7E787E4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NsIojj4PzAo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ted.com/talks/louie_schwartzberg_the_hidden_beauty_of_pollination?language=e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Seed Plants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3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 in 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38_02aFlowerStructure-L"/>
          <p:cNvPicPr/>
          <p:nvPr/>
        </p:nvPicPr>
        <p:blipFill>
          <a:blip r:embed="rId1"/>
          <a:stretch/>
        </p:blipFill>
        <p:spPr>
          <a:xfrm>
            <a:off x="1963800" y="1828800"/>
            <a:ext cx="5216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 in Gymn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28" descr="gymnospermlifecycle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 vs. Cross-Poll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ollen04"/>
          <p:cNvPicPr/>
          <p:nvPr/>
        </p:nvPicPr>
        <p:blipFill>
          <a:blip r:embed="rId1"/>
          <a:stretch/>
        </p:blipFill>
        <p:spPr>
          <a:xfrm>
            <a:off x="1279440" y="1981080"/>
            <a:ext cx="658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38_06DoubleFertilizationA"/>
          <p:cNvPicPr/>
          <p:nvPr/>
        </p:nvPicPr>
        <p:blipFill>
          <a:blip r:embed="rId1"/>
          <a:stretch/>
        </p:blipFill>
        <p:spPr>
          <a:xfrm>
            <a:off x="1973160" y="1981080"/>
            <a:ext cx="51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gure-32-02-09"/>
          <p:cNvPicPr/>
          <p:nvPr/>
        </p:nvPicPr>
        <p:blipFill>
          <a:blip r:embed="rId1"/>
          <a:stretch/>
        </p:blipFill>
        <p:spPr>
          <a:xfrm>
            <a:off x="685800" y="2263680"/>
            <a:ext cx="7772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ed Disp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seed_dispersal- wind"/>
          <p:cNvPicPr/>
          <p:nvPr/>
        </p:nvPicPr>
        <p:blipFill>
          <a:blip r:embed="rId2"/>
          <a:stretch/>
        </p:blipFill>
        <p:spPr>
          <a:xfrm>
            <a:off x="228600" y="1843200"/>
            <a:ext cx="4343400" cy="416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image_mini"/>
          <p:cNvPicPr/>
          <p:nvPr/>
        </p:nvPicPr>
        <p:blipFill>
          <a:blip r:embed="rId3"/>
          <a:stretch/>
        </p:blipFill>
        <p:spPr>
          <a:xfrm>
            <a:off x="4648320" y="2827440"/>
            <a:ext cx="426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inclu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genetic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are able to be dispersed from parent plant (less compet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can remain dormant until conditions become favo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idden Beauty of Pollination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evolution of flowers &amp; pollinators is amazing, and our food supply depends largely on this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important to think about how our activities can help, rather than harm the pollin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inspired by this introduction &amp;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xcerp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beautiful film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gs of Life”</a:t>
            </a: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4T01:20:23Z</dcterms:created>
  <dc:creator>rubina khan</dc:creator>
  <dc:description/>
  <dc:language>en-US</dc:language>
  <cp:lastModifiedBy>rubina khan</cp:lastModifiedBy>
  <dcterms:modified xsi:type="dcterms:W3CDTF">2016-03-21T19:26:02Z</dcterms:modified>
  <cp:revision>55</cp:revision>
  <dc:subject/>
  <dc:title>Plant Reproduction</dc:title>
</cp:coreProperties>
</file>